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FB6-79BA-4F4C-819B-880D4B7A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A72-381E-4A0E-824A-771CD90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B87-9039-49EB-B595-45DEA73B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AC4-EA20-4B96-8D3F-935E3150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214-69BD-4864-AF6B-E372B0D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4FC-0146-4B5A-B893-1A6CD1A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EFE-07A4-49E0-8D2C-D5054418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48E-1FF8-4E28-97B6-BEDF187D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37F-B6D3-424B-88D8-C2A5437F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5F7-4F9E-4287-B954-0852AA1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E3A-DB95-4BE3-8CA5-688CFB2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F1B7-5005-4117-92AD-F0C6633C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60AB-D234-4E2C-88C8-7542AE1F2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4462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414200">
            <a:off x="971640" y="1484280"/>
            <a:ext cx="2543040" cy="34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187280" y="692280"/>
            <a:ext cx="6963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nnie Raindrop's journe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19414200">
            <a:off x="4427280" y="335772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48360" y="2349360"/>
            <a:ext cx="2736720" cy="863640"/>
          </a:xfrm>
          <a:prstGeom prst="wedgeRectCallout">
            <a:avLst>
              <a:gd name="adj1" fmla="val -50115"/>
              <a:gd name="adj2" fmla="val 109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the rivers load. It’s not strong enough to hold it in the lower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950080"/>
            <a:ext cx="863640" cy="765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19414200">
            <a:off x="5363640" y="2133720"/>
            <a:ext cx="776520" cy="105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40360" y="1125360"/>
            <a:ext cx="2808360" cy="1224000"/>
          </a:xfrm>
          <a:prstGeom prst="wedgeRectCallout">
            <a:avLst>
              <a:gd name="adj1" fmla="val -53560"/>
              <a:gd name="adj2" fmla="val 80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the massive floodplains either side. And the meanders are going everywhere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5805360"/>
            <a:ext cx="792360" cy="792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9414200">
            <a:off x="3779640" y="400536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11640" y="3068640"/>
            <a:ext cx="2232000" cy="936720"/>
          </a:xfrm>
          <a:prstGeom prst="wedgeRectCallout">
            <a:avLst>
              <a:gd name="adj1" fmla="val -45162"/>
              <a:gd name="adj2" fmla="val 74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! I’m coming up to the river mouth and  the s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877000"/>
            <a:ext cx="720720" cy="792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19414200">
            <a:off x="3779640" y="4005360"/>
            <a:ext cx="776160" cy="1055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rot="517200">
            <a:off x="4572000" y="3500280"/>
            <a:ext cx="776160" cy="1055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 rot="532200">
            <a:off x="2626920" y="3860280"/>
            <a:ext cx="776160" cy="1055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 rot="846600">
            <a:off x="3419640" y="2781000"/>
            <a:ext cx="776160" cy="1055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 rot="1163400">
            <a:off x="5435280" y="407628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084720" y="5734080"/>
            <a:ext cx="2678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3068640"/>
            <a:ext cx="1944720" cy="792000"/>
          </a:xfrm>
          <a:prstGeom prst="wedgeRectCallout">
            <a:avLst>
              <a:gd name="adj1" fmla="val -44203"/>
              <a:gd name="adj2" fmla="val 70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ve made it with all of m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9414200">
            <a:off x="2410920" y="692280"/>
            <a:ext cx="7765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19414200">
            <a:off x="2700000" y="1916280"/>
            <a:ext cx="77616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19414200">
            <a:off x="1618920" y="1773360"/>
            <a:ext cx="77616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19414200">
            <a:off x="899640" y="476280"/>
            <a:ext cx="776520" cy="1055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 rot="19414200">
            <a:off x="394920" y="177336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940360" y="476280"/>
            <a:ext cx="2678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he beginning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557360"/>
            <a:ext cx="2736720" cy="1224000"/>
          </a:xfrm>
          <a:prstGeom prst="wedgeRectCallout">
            <a:avLst>
              <a:gd name="adj1" fmla="val -127666"/>
              <a:gd name="adj2" fmla="val 39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falling down as precipitation near the water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734080"/>
            <a:ext cx="1224000" cy="863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414200">
            <a:off x="1332000" y="321300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40000" y="2492280"/>
            <a:ext cx="2952720" cy="1441440"/>
          </a:xfrm>
          <a:prstGeom prst="wedgeRectCallout">
            <a:avLst>
              <a:gd name="adj1" fmla="val -66398"/>
              <a:gd name="adj2" fmla="val 43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rolling down the V-shaped valley. It’s quite steep. The river’s quite thin so I hope there’s enough space for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805360"/>
            <a:ext cx="936720" cy="792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19414200">
            <a:off x="3780000" y="184464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907920"/>
            <a:ext cx="2520720" cy="1152720"/>
          </a:xfrm>
          <a:prstGeom prst="wedgeRectCallout">
            <a:avLst>
              <a:gd name="adj1" fmla="val -59384"/>
              <a:gd name="adj2" fmla="val 86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in for a rocky ride. It's fast flowing and very thin. I’m definitely still in the upper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6021360"/>
            <a:ext cx="863640" cy="647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56000" y="1413000"/>
            <a:ext cx="388764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9414200">
            <a:off x="3924360" y="134136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620640"/>
            <a:ext cx="1871640" cy="936720"/>
          </a:xfrm>
          <a:prstGeom prst="wedgeRectCallout">
            <a:avLst>
              <a:gd name="adj1" fmla="val -4474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gh! I’m falling down a waterf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805360"/>
            <a:ext cx="936360" cy="908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9414200">
            <a:off x="3780000" y="184464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435640" y="981000"/>
            <a:ext cx="1944720" cy="935280"/>
          </a:xfrm>
          <a:prstGeom prst="wedgeRectCallout">
            <a:avLst>
              <a:gd name="adj1" fmla="val -99305"/>
              <a:gd name="adj2" fmla="val 117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so fast I’m almost falling a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805360"/>
            <a:ext cx="1081080" cy="863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19414200">
            <a:off x="3492000" y="2637000"/>
            <a:ext cx="776520" cy="1055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48360" y="2205000"/>
            <a:ext cx="3995640" cy="1152720"/>
          </a:xfrm>
          <a:prstGeom prst="wedgeRectCallout">
            <a:avLst>
              <a:gd name="adj1" fmla="val -49763"/>
              <a:gd name="adj2" fmla="val 5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er the end of the middle passage and around the corner there’s an oxbow 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77000"/>
            <a:ext cx="863280" cy="792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19414200">
            <a:off x="2195280" y="292428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32000" y="1989000"/>
            <a:ext cx="2305080" cy="1152720"/>
          </a:xfrm>
          <a:prstGeom prst="wedgeRectCallout">
            <a:avLst>
              <a:gd name="adj1" fmla="val -62601"/>
              <a:gd name="adj2" fmla="val 7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ders are turning everywhere. And it's getting flatter around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950080"/>
            <a:ext cx="718920" cy="7189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19414200">
            <a:off x="6156000" y="414972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59280" y="3357720"/>
            <a:ext cx="2592360" cy="1439640"/>
          </a:xfrm>
          <a:prstGeom prst="wedgeRectCallout">
            <a:avLst>
              <a:gd name="adj1" fmla="val 93847"/>
              <a:gd name="adj2" fmla="val 56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ivers taking forever to get me to the beach. And my friend’s just fell onto a flood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877000"/>
            <a:ext cx="720720" cy="792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9:49:09Z</dcterms:created>
  <dc:creator>acassidy</dc:creator>
  <dc:description/>
  <dc:language>en-US</dc:language>
  <cp:lastModifiedBy>Lindy</cp:lastModifiedBy>
  <dcterms:modified xsi:type="dcterms:W3CDTF">2009-02-01T19:24:49Z</dcterms:modified>
  <cp:revision>15</cp:revision>
  <dc:subject/>
  <dc:title>Slide 1</dc:title>
</cp:coreProperties>
</file>